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2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681-29ED-4024-BFC1-3CBDD333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FBE-3C37-4320-A265-03FA5448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CE7-56C2-4D63-B35C-2B6E8251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310-3B6E-40D3-A3FD-D385D13D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72A7-311F-454C-A37E-FC47ADB3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54FD-E126-4004-BE1C-58C194AD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EA80-98AF-45ED-9961-4D95137C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45C7-FDC2-4226-A1B6-DF5A3906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DF46-B303-45A2-9006-710FA580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B714-6AE1-47F5-8198-B6C31795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C6EF-2237-4C8C-974C-78CB74AF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877-5CB5-4BC8-8938-DA23E737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D8B9-67BB-452F-BAB9-DAA890B2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56A7-FCAE-432C-8777-CAEB65D2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AFA0-1D4B-46CF-9385-BEB71622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EC5E-A7AB-4260-B5CD-4BC03C89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B3CD-8239-473F-9B03-803788FD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73C-2226-44E2-8D62-7E689EA5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EFA-1EC5-4A02-A027-5E1D8ECC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D66-0422-43F7-A2F8-EC064B25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635-1C34-4563-BA59-48443E5C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830-048E-4292-BEEC-49CE16C8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B00-24A8-408A-9906-E1BC3D5E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9FE-6DB1-4A68-9180-2D6120F4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6DA8-8D73-414B-8D74-5E0A9172D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2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2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A017-37E7-4F88-85E8-5426F2478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4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C:\Documents and Settings\Administrator\桌面\图片1.png"/>
          <p:cNvPicPr/>
          <p:nvPr/>
        </p:nvPicPr>
        <p:blipFill>
          <a:blip r:embed="rId1"/>
          <a:stretch/>
        </p:blipFill>
        <p:spPr>
          <a:xfrm>
            <a:off x="2075040" y="2697120"/>
            <a:ext cx="4225680" cy="123660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"/>
          <p:cNvGrpSpPr/>
          <p:nvPr/>
        </p:nvGrpSpPr>
        <p:grpSpPr>
          <a:xfrm>
            <a:off x="1998720" y="2590920"/>
            <a:ext cx="4030560" cy="1023840"/>
            <a:chOff x="1998720" y="2590920"/>
            <a:chExt cx="4030560" cy="1023840"/>
          </a:xfrm>
        </p:grpSpPr>
        <p:sp>
          <p:nvSpPr>
            <p:cNvPr id="86" name="矩形 1"/>
            <p:cNvSpPr/>
            <p:nvPr/>
          </p:nvSpPr>
          <p:spPr>
            <a:xfrm>
              <a:off x="2117520" y="2590920"/>
              <a:ext cx="3911760" cy="87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 flipH="1">
              <a:off x="1998720" y="2760480"/>
              <a:ext cx="893520" cy="85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Rectangle 6"/>
          <p:cNvSpPr/>
          <p:nvPr/>
        </p:nvSpPr>
        <p:spPr>
          <a:xfrm>
            <a:off x="2252520" y="3608280"/>
            <a:ext cx="468000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252520" y="3608280"/>
            <a:ext cx="5221440" cy="54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H:\2011新年素材\2011新年素材\2354.png"/>
          <p:cNvPicPr/>
          <p:nvPr/>
        </p:nvPicPr>
        <p:blipFill>
          <a:blip r:embed="rId3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L 0.425 -4.81481E-006 E">
                                      <p:cBhvr>
                                        <p:cTn id="6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50867E-006 L 0.50209 4.50867E-006 E">
                                      <p:cBhvr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H:\2011新年素材\2011新年素材\素材中国 sccnn.png"/>
          <p:cNvPicPr/>
          <p:nvPr/>
        </p:nvPicPr>
        <p:blipFill>
          <a:blip r:embed="rId1"/>
          <a:stretch/>
        </p:blipFill>
        <p:spPr>
          <a:xfrm>
            <a:off x="1143000" y="1336680"/>
            <a:ext cx="6515280" cy="3629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:\2011新年素材\2011新年素材\2354.png"/>
          <p:cNvPicPr/>
          <p:nvPr/>
        </p:nvPicPr>
        <p:blipFill>
          <a:blip r:embed="rId2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H:\2011新年素材\2011新年素材\2354.png"/>
          <p:cNvPicPr/>
          <p:nvPr/>
        </p:nvPicPr>
        <p:blipFill>
          <a:blip r:embed="rId1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:\2011新年素材\2011新年素材\OOOPIC_zhengluan_200912296b734228252d22c7.png"/>
          <p:cNvPicPr/>
          <p:nvPr/>
        </p:nvPicPr>
        <p:blipFill>
          <a:blip r:embed="rId2"/>
          <a:stretch/>
        </p:blipFill>
        <p:spPr>
          <a:xfrm>
            <a:off x="1600200" y="647640"/>
            <a:ext cx="2971800" cy="475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H:\2011新年素材\2011新年素材\为二位.png"/>
          <p:cNvPicPr/>
          <p:nvPr/>
        </p:nvPicPr>
        <p:blipFill>
          <a:blip r:embed="rId3"/>
          <a:stretch/>
        </p:blipFill>
        <p:spPr>
          <a:xfrm>
            <a:off x="5200560" y="819000"/>
            <a:ext cx="2629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H:\2011新年素材\2011新年素材\214123.png"/>
          <p:cNvPicPr/>
          <p:nvPr/>
        </p:nvPicPr>
        <p:blipFill>
          <a:blip r:embed="rId1"/>
          <a:stretch/>
        </p:blipFill>
        <p:spPr>
          <a:xfrm>
            <a:off x="4344840" y="2909880"/>
            <a:ext cx="5105520" cy="2629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:\2011新年素材\2011新年素材\214123.png"/>
          <p:cNvPicPr/>
          <p:nvPr/>
        </p:nvPicPr>
        <p:blipFill>
          <a:blip r:embed="rId2"/>
          <a:stretch/>
        </p:blipFill>
        <p:spPr>
          <a:xfrm>
            <a:off x="0" y="3413160"/>
            <a:ext cx="5105520" cy="243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:\2011新年素材\2011新年素材\214123.png"/>
          <p:cNvPicPr/>
          <p:nvPr/>
        </p:nvPicPr>
        <p:blipFill>
          <a:blip r:embed="rId3"/>
          <a:stretch/>
        </p:blipFill>
        <p:spPr>
          <a:xfrm>
            <a:off x="-331920" y="399960"/>
            <a:ext cx="5105520" cy="239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:\2011新年素材\2011新年素材\214123.png"/>
          <p:cNvPicPr/>
          <p:nvPr/>
        </p:nvPicPr>
        <p:blipFill>
          <a:blip r:embed="rId4"/>
          <a:stretch/>
        </p:blipFill>
        <p:spPr>
          <a:xfrm>
            <a:off x="4062240" y="1136520"/>
            <a:ext cx="5726160" cy="1624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:\2011新年素材\2011新年素材\2354.png"/>
          <p:cNvPicPr/>
          <p:nvPr/>
        </p:nvPicPr>
        <p:blipFill>
          <a:blip r:embed="rId5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6432480" y="0"/>
            <a:ext cx="2868840" cy="355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6064200" y="2965320"/>
            <a:ext cx="3451320" cy="3122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:\2011新年素材\2011新年素材\2354.png"/>
          <p:cNvPicPr/>
          <p:nvPr/>
        </p:nvPicPr>
        <p:blipFill>
          <a:blip r:embed="rId3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:\2011新年素材\2011新年素材\23524.png"/>
          <p:cNvPicPr/>
          <p:nvPr/>
        </p:nvPicPr>
        <p:blipFill>
          <a:blip r:embed="rId4"/>
          <a:stretch/>
        </p:blipFill>
        <p:spPr>
          <a:xfrm>
            <a:off x="714240" y="388800"/>
            <a:ext cx="545796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2"/>
          <p:cNvPicPr/>
          <p:nvPr/>
        </p:nvPicPr>
        <p:blipFill>
          <a:blip r:embed="rId1"/>
          <a:stretch/>
        </p:blipFill>
        <p:spPr>
          <a:xfrm>
            <a:off x="-820800" y="3618000"/>
            <a:ext cx="5595840" cy="2550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:\2011新年素材\2011新年素材\22文物.png"/>
          <p:cNvPicPr/>
          <p:nvPr/>
        </p:nvPicPr>
        <p:blipFill>
          <a:blip r:embed="rId2"/>
          <a:stretch/>
        </p:blipFill>
        <p:spPr>
          <a:xfrm>
            <a:off x="1528920" y="957240"/>
            <a:ext cx="4636800" cy="3333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H:\2011新年素材\2011新年素材\324.png"/>
          <p:cNvPicPr/>
          <p:nvPr/>
        </p:nvPicPr>
        <p:blipFill>
          <a:blip r:embed="rId3"/>
          <a:stretch/>
        </p:blipFill>
        <p:spPr>
          <a:xfrm>
            <a:off x="1565280" y="1947960"/>
            <a:ext cx="6068880" cy="280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:\2011新年素材\2011新年素材\2354.png"/>
          <p:cNvPicPr/>
          <p:nvPr/>
        </p:nvPicPr>
        <p:blipFill>
          <a:blip r:embed="rId4"/>
          <a:stretch/>
        </p:blipFill>
        <p:spPr>
          <a:xfrm>
            <a:off x="0" y="4654440"/>
            <a:ext cx="914400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2"/>
          <p:cNvGrpSpPr/>
          <p:nvPr/>
        </p:nvGrpSpPr>
        <p:grpSpPr>
          <a:xfrm>
            <a:off x="2282760" y="2976480"/>
            <a:ext cx="4530960" cy="879480"/>
            <a:chOff x="2282760" y="2976480"/>
            <a:chExt cx="4530960" cy="879480"/>
          </a:xfrm>
        </p:grpSpPr>
        <p:pic>
          <p:nvPicPr>
            <p:cNvPr id="145" name="Picture 2" descr="C:\Documents and Settings\Administrator\桌面\图片2.png"/>
            <p:cNvPicPr/>
            <p:nvPr/>
          </p:nvPicPr>
          <p:blipFill>
            <a:blip r:embed="rId1"/>
            <a:stretch/>
          </p:blipFill>
          <p:spPr>
            <a:xfrm>
              <a:off x="2282760" y="2976480"/>
              <a:ext cx="204156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11"/>
            <p:cNvSpPr/>
            <p:nvPr/>
          </p:nvSpPr>
          <p:spPr>
            <a:xfrm>
              <a:off x="4362480" y="3171600"/>
              <a:ext cx="24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乌夜啼倾情出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8" descr="H:\2011新年素材\2011新年素材\2354.png"/>
          <p:cNvPicPr/>
          <p:nvPr/>
        </p:nvPicPr>
        <p:blipFill>
          <a:blip r:embed="rId2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325600" y="-85680"/>
            <a:ext cx="4881600" cy="616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:\2011新年素材\2011新年素材\2354.png"/>
          <p:cNvPicPr/>
          <p:nvPr/>
        </p:nvPicPr>
        <p:blipFill>
          <a:blip r:embed="rId2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ictur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H:\2011新年素材\2011新年素材\素材中国 23sccnn.jpg"/>
          <p:cNvPicPr/>
          <p:nvPr/>
        </p:nvPicPr>
        <p:blipFill>
          <a:blip r:embed="rId1"/>
          <a:srcRect l="0" t="163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:\2011新年素材\2011新年素材\未标题-1.png"/>
          <p:cNvPicPr/>
          <p:nvPr/>
        </p:nvPicPr>
        <p:blipFill>
          <a:blip r:embed="rId2"/>
          <a:stretch/>
        </p:blipFill>
        <p:spPr>
          <a:xfrm>
            <a:off x="0" y="3919680"/>
            <a:ext cx="7429680" cy="306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:\2011新年素材\2011新年素材\未w题-1.png"/>
          <p:cNvPicPr/>
          <p:nvPr/>
        </p:nvPicPr>
        <p:blipFill>
          <a:blip r:embed="rId3"/>
          <a:stretch/>
        </p:blipFill>
        <p:spPr>
          <a:xfrm>
            <a:off x="28440" y="112680"/>
            <a:ext cx="3316320" cy="443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:\2011新年素材\2011新年素材\未w题-1.png"/>
          <p:cNvPicPr/>
          <p:nvPr/>
        </p:nvPicPr>
        <p:blipFill>
          <a:blip r:embed="rId4"/>
          <a:stretch/>
        </p:blipFill>
        <p:spPr>
          <a:xfrm>
            <a:off x="5248440" y="2819520"/>
            <a:ext cx="3794040" cy="3927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98" name="Picture 7" descr="H:\2011新年素材\2011新年素材\未w题-1.png"/>
          <p:cNvPicPr/>
          <p:nvPr/>
        </p:nvPicPr>
        <p:blipFill>
          <a:blip r:embed="rId5"/>
          <a:stretch/>
        </p:blipFill>
        <p:spPr>
          <a:xfrm>
            <a:off x="6302520" y="12600"/>
            <a:ext cx="2904840" cy="1866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:\2011新年素材\2011新年素材\未w题-1.png"/>
          <p:cNvPicPr/>
          <p:nvPr/>
        </p:nvPicPr>
        <p:blipFill>
          <a:blip r:embed="rId6"/>
          <a:stretch/>
        </p:blipFill>
        <p:spPr>
          <a:xfrm>
            <a:off x="6772320" y="63360"/>
            <a:ext cx="186696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:\2011新年素材\2011新年素材\素材中国 23sccnn.jpg"/>
          <p:cNvPicPr/>
          <p:nvPr/>
        </p:nvPicPr>
        <p:blipFill>
          <a:blip r:embed="rId1"/>
          <a:srcRect l="0" t="163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:\2011新年素材\2011新年素材\2341.png"/>
          <p:cNvPicPr/>
          <p:nvPr/>
        </p:nvPicPr>
        <p:blipFill>
          <a:blip r:embed="rId2"/>
          <a:stretch/>
        </p:blipFill>
        <p:spPr>
          <a:xfrm>
            <a:off x="0" y="4362480"/>
            <a:ext cx="9144000" cy="2495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:\2011新年素材\未标题-1.png"/>
          <p:cNvPicPr/>
          <p:nvPr/>
        </p:nvPicPr>
        <p:blipFill>
          <a:blip r:embed="rId3"/>
          <a:stretch/>
        </p:blipFill>
        <p:spPr>
          <a:xfrm>
            <a:off x="203040" y="0"/>
            <a:ext cx="2975040" cy="1947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H:\2011新年素材\222.png"/>
          <p:cNvPicPr/>
          <p:nvPr/>
        </p:nvPicPr>
        <p:blipFill>
          <a:blip r:embed="rId4"/>
          <a:stretch/>
        </p:blipFill>
        <p:spPr>
          <a:xfrm>
            <a:off x="603360" y="1262160"/>
            <a:ext cx="2073240" cy="1746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2424240" y="2239920"/>
            <a:ext cx="64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金虎辞旧岁，祥兔报春来。新春将至，真诚的感谢您一直以来对锐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关心与支持。在新的一年里，希望大家一如既往的关注和支持锐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值此辞旧迎新之际，衷心的祝愿您和您的家人；新春愉快，身体健康，工作顺利，阖家欢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:\2011新年素材\2011新年素材\未w题-1.png"/>
          <p:cNvPicPr/>
          <p:nvPr/>
        </p:nvPicPr>
        <p:blipFill>
          <a:blip r:embed="rId5"/>
          <a:stretch/>
        </p:blipFill>
        <p:spPr>
          <a:xfrm>
            <a:off x="6302520" y="12600"/>
            <a:ext cx="2904840" cy="1866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H:\2011新年素材\2011新年素材\未w题-1.png"/>
          <p:cNvPicPr/>
          <p:nvPr/>
        </p:nvPicPr>
        <p:blipFill>
          <a:blip r:embed="rId6"/>
          <a:stretch/>
        </p:blipFill>
        <p:spPr>
          <a:xfrm>
            <a:off x="6772320" y="63360"/>
            <a:ext cx="1866960" cy="5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7"/>
          <a:stretch/>
        </p:blipFill>
        <p:spPr>
          <a:xfrm>
            <a:off x="4470480" y="1033560"/>
            <a:ext cx="248904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H:\2011新年素材\2011新年素材\素材中国 23sccnn.jpg"/>
          <p:cNvPicPr/>
          <p:nvPr/>
        </p:nvPicPr>
        <p:blipFill>
          <a:blip r:embed="rId1"/>
          <a:srcRect l="0" t="163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H:\2011新年素材\2011新年素材\未w题-1.png"/>
          <p:cNvPicPr/>
          <p:nvPr/>
        </p:nvPicPr>
        <p:blipFill>
          <a:blip r:embed="rId2"/>
          <a:stretch/>
        </p:blipFill>
        <p:spPr>
          <a:xfrm>
            <a:off x="6302520" y="12600"/>
            <a:ext cx="2904840" cy="1866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:\2011新年素材\2011新年素材\未w题-1.png"/>
          <p:cNvPicPr/>
          <p:nvPr/>
        </p:nvPicPr>
        <p:blipFill>
          <a:blip r:embed="rId3"/>
          <a:stretch/>
        </p:blipFill>
        <p:spPr>
          <a:xfrm>
            <a:off x="6772320" y="63360"/>
            <a:ext cx="1866960" cy="514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:\2011新年素材\2011新年素材\2341.png"/>
          <p:cNvPicPr/>
          <p:nvPr/>
        </p:nvPicPr>
        <p:blipFill>
          <a:blip r:embed="rId4"/>
          <a:stretch/>
        </p:blipFill>
        <p:spPr>
          <a:xfrm>
            <a:off x="0" y="4362480"/>
            <a:ext cx="914400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:\2011新年素材\2011新年素材\素材中国 23sccnn.jpg"/>
          <p:cNvPicPr/>
          <p:nvPr/>
        </p:nvPicPr>
        <p:blipFill>
          <a:blip r:embed="rId1"/>
          <a:srcRect l="0" t="163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:\2011新年素材\2011新年素材\未w题-1.png"/>
          <p:cNvPicPr/>
          <p:nvPr/>
        </p:nvPicPr>
        <p:blipFill>
          <a:blip r:embed="rId2"/>
          <a:stretch/>
        </p:blipFill>
        <p:spPr>
          <a:xfrm>
            <a:off x="6302520" y="12600"/>
            <a:ext cx="2904840" cy="1866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:\2011新年素材\2011新年素材\未w题-1.png"/>
          <p:cNvPicPr/>
          <p:nvPr/>
        </p:nvPicPr>
        <p:blipFill>
          <a:blip r:embed="rId3"/>
          <a:stretch/>
        </p:blipFill>
        <p:spPr>
          <a:xfrm>
            <a:off x="6772320" y="63360"/>
            <a:ext cx="186696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:\2011新年素材\2011新年素材\未标题-1.png"/>
          <p:cNvPicPr/>
          <p:nvPr/>
        </p:nvPicPr>
        <p:blipFill>
          <a:blip r:embed="rId4"/>
          <a:stretch/>
        </p:blipFill>
        <p:spPr>
          <a:xfrm>
            <a:off x="0" y="3919680"/>
            <a:ext cx="7429680" cy="3063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H:\2011新年素材\2011新年素材\未w题-1.png"/>
          <p:cNvPicPr/>
          <p:nvPr/>
        </p:nvPicPr>
        <p:blipFill>
          <a:blip r:embed="rId5"/>
          <a:stretch/>
        </p:blipFill>
        <p:spPr>
          <a:xfrm>
            <a:off x="5248440" y="2819520"/>
            <a:ext cx="3794040" cy="3927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17" name="Picture 2" descr="C:\Documents and Settings\Administrator\桌面\图片1.png"/>
          <p:cNvPicPr/>
          <p:nvPr/>
        </p:nvPicPr>
        <p:blipFill>
          <a:blip r:embed="rId6"/>
          <a:stretch/>
        </p:blipFill>
        <p:spPr>
          <a:xfrm>
            <a:off x="1852560" y="2006640"/>
            <a:ext cx="6139080" cy="21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H:\2011新年素材\JR-0441 [转换].png"/>
          <p:cNvPicPr/>
          <p:nvPr/>
        </p:nvPicPr>
        <p:blipFill>
          <a:blip r:embed="rId1"/>
          <a:stretch/>
        </p:blipFill>
        <p:spPr>
          <a:xfrm>
            <a:off x="1192320" y="1176480"/>
            <a:ext cx="7532640" cy="4259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:\2011新年素材\2011新年素材\2354.png"/>
          <p:cNvPicPr/>
          <p:nvPr/>
        </p:nvPicPr>
        <p:blipFill>
          <a:blip r:embed="rId2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H:\2011新年素材\2011新年素材\2354.png"/>
          <p:cNvPicPr/>
          <p:nvPr/>
        </p:nvPicPr>
        <p:blipFill>
          <a:blip r:embed="rId1"/>
          <a:stretch/>
        </p:blipFill>
        <p:spPr>
          <a:xfrm>
            <a:off x="0" y="4654440"/>
            <a:ext cx="9144000" cy="2203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:\2011新年素材\2011新年素材\3.png"/>
          <p:cNvPicPr/>
          <p:nvPr/>
        </p:nvPicPr>
        <p:blipFill>
          <a:blip r:embed="rId2"/>
          <a:stretch/>
        </p:blipFill>
        <p:spPr>
          <a:xfrm>
            <a:off x="0" y="2139840"/>
            <a:ext cx="9144000" cy="2330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H:\2011新年素材\2011新年素材\23.png"/>
          <p:cNvPicPr/>
          <p:nvPr/>
        </p:nvPicPr>
        <p:blipFill>
          <a:blip r:embed="rId3"/>
          <a:stretch/>
        </p:blipFill>
        <p:spPr>
          <a:xfrm>
            <a:off x="3086280" y="4680"/>
            <a:ext cx="3828960" cy="1909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:\2011新年素材\2011新年素材\32.png"/>
          <p:cNvPicPr/>
          <p:nvPr/>
        </p:nvPicPr>
        <p:blipFill>
          <a:blip r:embed="rId4"/>
          <a:stretch/>
        </p:blipFill>
        <p:spPr>
          <a:xfrm>
            <a:off x="3035160" y="4695840"/>
            <a:ext cx="37720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68480" y="1924200"/>
            <a:ext cx="6707160" cy="328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:\2011新年素材\2011新年素材\2354.png"/>
          <p:cNvPicPr/>
          <p:nvPr/>
        </p:nvPicPr>
        <p:blipFill>
          <a:blip r:embed="rId2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15T08:48:05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