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6E7-9FE0-4288-8521-FE7F9BE63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FFB-93A3-4875-8B05-8CF8F1DD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005-87DC-4A8E-A605-24732BF6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199-04A7-4663-829E-BB772AF7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2073-56C6-4247-98BE-9E27EF29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AED2-70A7-470B-9955-C72FF558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CC3E-C212-455F-A0C5-DAE6AFFF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D29-0CA4-4CB1-99C7-CD4B4A56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41CB-EEAF-4F70-903B-6C7244C7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BB93-4E71-493D-937B-C6B91996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CCEF-49C6-4E0B-85DF-594CCF9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823F-0508-4874-9597-D68D42C2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1B3-3EBC-4B24-8E2E-0B30DFE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C7E4-9D94-4B13-95B7-26DA1BE4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ACE-A038-491D-9C43-79402D15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0C53-AA38-4645-9B20-A35F9AFA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5BD-745C-4DA8-819F-3AC7FCE2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710-60DA-40BF-8645-5CFD555E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7BA-DBA5-4780-BF45-8395E7B1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0BF7-31F0-44D4-9AEB-FCC7DEE4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51E2-BBF9-4A7A-8B9C-5BCD96F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CBE-D83B-4D04-B1EF-A6BC9F6F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A11-4B6F-4F6C-A047-3915C979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CFDF-1232-4829-8B16-CCB9DAC4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EA2B-9398-4D99-9810-31EA20DD7A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且行背景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8"/>
          <p:cNvSpPr/>
          <p:nvPr/>
        </p:nvSpPr>
        <p:spPr>
          <a:xfrm>
            <a:off x="3400920" y="6572160"/>
            <a:ext cx="24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且行资源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qiexing.com  QQ</a:t>
            </a: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5102804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9"/>
          <p:cNvSpPr/>
          <p:nvPr/>
        </p:nvSpPr>
        <p:spPr>
          <a:xfrm>
            <a:off x="852480" y="119160"/>
            <a:ext cx="45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且行资源教程：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SHOP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抠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9A82-4181-40B6-B57D-347420D69A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6" descr="且行内容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3528360" y="6500880"/>
            <a:ext cx="23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且行资源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1" lang="zh-CN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qiexing.com  QQ:5102804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820440" y="425520"/>
            <a:ext cx="47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SHOP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应用技巧：抠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"/>
          <p:cNvSpPr/>
          <p:nvPr/>
        </p:nvSpPr>
        <p:spPr>
          <a:xfrm>
            <a:off x="826920" y="1052640"/>
            <a:ext cx="7777440" cy="46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435840" y="6215040"/>
            <a:ext cx="23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资源教程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Photoshop</a:t>
            </a: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扣图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1698120" y="1197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更多资源推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304720" y="1741320"/>
            <a:ext cx="293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资源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www.qiex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405160" y="2101680"/>
            <a:ext cx="41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资源下载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down.qiexing.com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2368800" y="2462040"/>
            <a:ext cx="31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教育技术论坛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www.etthin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2309040" y="2801880"/>
            <a:ext cx="30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电子学档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www.eportfolio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309760" y="3736800"/>
            <a:ext cx="29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新浪微博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t.sina.com/qiex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1774080" y="3213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且行联系方式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331360" y="4076640"/>
            <a:ext cx="316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腾讯微博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http://t.qq.com/qiexing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2387520" y="4365720"/>
            <a:ext cx="48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电子邮箱：</a:t>
            </a:r>
            <a:r>
              <a:rPr b="1" lang="en-US" sz="1400" spc="-1" strike="noStrike">
                <a:solidFill>
                  <a:srgbClr val="0d0d0d"/>
                </a:solidFill>
                <a:latin typeface="微软雅黑"/>
                <a:ea typeface="微软雅黑"/>
              </a:rPr>
              <a:t>SunFang@qiexing.com  13955453231@QQ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3021480" y="501336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0d0d"/>
                </a:solidFill>
                <a:latin typeface="微软雅黑"/>
                <a:ea typeface="微软雅黑"/>
              </a:rPr>
              <a:t>欢迎宣传与传播    期待您参与分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1657080" y="5497560"/>
            <a:ext cx="180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V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粘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9"/>
          <p:cNvSpPr/>
          <p:nvPr/>
        </p:nvSpPr>
        <p:spPr>
          <a:xfrm>
            <a:off x="1447920" y="2290680"/>
            <a:ext cx="4132080" cy="2651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5724360" y="2308320"/>
            <a:ext cx="2880000" cy="26334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5692680" y="2349360"/>
            <a:ext cx="302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切换到通道面板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新建一个通道：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pha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粘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2" descr=""/>
          <p:cNvPicPr/>
          <p:nvPr/>
        </p:nvPicPr>
        <p:blipFill>
          <a:blip r:embed="rId1"/>
          <a:stretch/>
        </p:blipFill>
        <p:spPr>
          <a:xfrm>
            <a:off x="1492200" y="2362320"/>
            <a:ext cx="4060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317040" y="5641920"/>
            <a:ext cx="37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放大缩小工具可以使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键切换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切换黑白背景前景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左右中括号控制画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5692680" y="234936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利用画笔工具，对图形的黑白选区进行修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记住：白色是选中，黑色是不需要选中区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为了更精确修正选择区域，可以将图形放大若干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"/>
          <p:cNvPicPr/>
          <p:nvPr/>
        </p:nvPicPr>
        <p:blipFill>
          <a:blip r:embed="rId1"/>
          <a:stretch/>
        </p:blipFill>
        <p:spPr>
          <a:xfrm>
            <a:off x="1496880" y="2344680"/>
            <a:ext cx="40118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317040" y="5641920"/>
            <a:ext cx="37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放大缩小工具可以使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T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键切换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切换黑白背景前景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]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左右中括号控制画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5692680" y="234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最后的修正效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2" descr=""/>
          <p:cNvPicPr/>
          <p:nvPr/>
        </p:nvPicPr>
        <p:blipFill>
          <a:blip r:embed="rId1"/>
          <a:stretch/>
        </p:blipFill>
        <p:spPr>
          <a:xfrm>
            <a:off x="1530360" y="2376360"/>
            <a:ext cx="39844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1731960" y="5641920"/>
            <a:ext cx="25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SHIFT+I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反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5692680" y="2349360"/>
            <a:ext cx="3024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通道面板中，单击下方的将通道做为选区载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或 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TRL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键，在通道上单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此操作是为了实现将通道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转换为选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有时根据需要可以还可以进行反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4" descr=""/>
          <p:cNvPicPr/>
          <p:nvPr/>
        </p:nvPicPr>
        <p:blipFill>
          <a:blip r:embed="rId1"/>
          <a:stretch/>
        </p:blipFill>
        <p:spPr>
          <a:xfrm>
            <a:off x="1533600" y="2368440"/>
            <a:ext cx="39020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553400" y="1582560"/>
            <a:ext cx="124740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删除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731960" y="5641920"/>
            <a:ext cx="25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SHIFT+I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反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5692680" y="234936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回到图层面板，将以前添加的图层删除（只保留选区即可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反向选择，按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ET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2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39452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2136600" y="1582560"/>
            <a:ext cx="295452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存成支持透明的文件格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2490840" y="5641920"/>
            <a:ext cx="28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在常见的图形格式里，只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NG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IF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支持背景透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1447920" y="2290680"/>
            <a:ext cx="4132080" cy="32068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0"/>
          <p:cNvSpPr/>
          <p:nvPr/>
        </p:nvSpPr>
        <p:spPr>
          <a:xfrm>
            <a:off x="5724360" y="2308320"/>
            <a:ext cx="2880000" cy="3189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5692680" y="2349360"/>
            <a:ext cx="30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保存文件：选择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NG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格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样图像就可以应用在任何背景的课件中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3" descr=""/>
          <p:cNvPicPr/>
          <p:nvPr/>
        </p:nvPicPr>
        <p:blipFill>
          <a:blip r:embed="rId1"/>
          <a:stretch/>
        </p:blipFill>
        <p:spPr>
          <a:xfrm>
            <a:off x="1633680" y="2390760"/>
            <a:ext cx="3770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2791440" y="3141720"/>
            <a:ext cx="39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资源见下载 请见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dow.qiex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4394520" y="37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698120" y="1844640"/>
            <a:ext cx="124740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021840" y="2492280"/>
            <a:ext cx="41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课件制作中，经常需要改变图片的背景色彩，或仅需要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某一部分主体，这就需要进行扣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190188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1976400" y="3281400"/>
            <a:ext cx="2032200" cy="2884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4140360" y="3645000"/>
            <a:ext cx="4171680" cy="144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38560" y="38926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里我们要把女孩的背景换成别的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色，但衣服后面的颜色怎么办呢，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有孩子的头发怎么选呀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969160" y="5356080"/>
            <a:ext cx="241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以下操作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SHOP CS4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为示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6129720" y="566244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此种抠图方法适合于半透明对象，其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抠图，请使用抽出或智能边缘等工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626840" y="1582560"/>
            <a:ext cx="14608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透明图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991960" y="5497560"/>
            <a:ext cx="31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如里你找不到图层面板，请在窗口菜单中找到“图层”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确保它被选中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8" descr=""/>
          <p:cNvPicPr/>
          <p:nvPr/>
        </p:nvPicPr>
        <p:blipFill>
          <a:blip r:embed="rId1"/>
          <a:stretch/>
        </p:blipFill>
        <p:spPr>
          <a:xfrm>
            <a:off x="1547640" y="2379600"/>
            <a:ext cx="4824720" cy="2803680"/>
          </a:xfrm>
          <a:prstGeom prst="rect">
            <a:avLst/>
          </a:prstGeom>
          <a:ln w="0">
            <a:noFill/>
          </a:ln>
        </p:spPr>
      </p:pic>
      <p:sp>
        <p:nvSpPr>
          <p:cNvPr id="111" name="矩形 9"/>
          <p:cNvSpPr/>
          <p:nvPr/>
        </p:nvSpPr>
        <p:spPr>
          <a:xfrm>
            <a:off x="1447920" y="2290680"/>
            <a:ext cx="504180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"/>
          <p:cNvSpPr/>
          <p:nvPr/>
        </p:nvSpPr>
        <p:spPr>
          <a:xfrm>
            <a:off x="6588000" y="2308320"/>
            <a:ext cx="201636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588000" y="234936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背景图层上双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弹出的窗口中点击确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2" descr=""/>
          <p:cNvPicPr/>
          <p:nvPr/>
        </p:nvPicPr>
        <p:blipFill>
          <a:blip r:embed="rId2"/>
          <a:stretch/>
        </p:blipFill>
        <p:spPr>
          <a:xfrm>
            <a:off x="7020000" y="3811680"/>
            <a:ext cx="799920" cy="390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3"/>
          <p:cNvSpPr/>
          <p:nvPr/>
        </p:nvSpPr>
        <p:spPr>
          <a:xfrm>
            <a:off x="6561000" y="317340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在图层面板下方点击创建新图层按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588000" y="4237200"/>
            <a:ext cx="20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将新建的图层拉到女孩的图层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626840" y="1582560"/>
            <a:ext cx="14608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透明图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862360" y="5497560"/>
            <a:ext cx="44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每一个图层前方，有一个眼睛的图标，你可以将其打开或关闭，以控制其是否显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1447920" y="2290680"/>
            <a:ext cx="504180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6588000" y="2308320"/>
            <a:ext cx="201636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6588000" y="234936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样做的目的是让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了解什么是透明，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能让你直接观察到背景被删除后图像是什么效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1503360" y="2344680"/>
            <a:ext cx="49230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480680" y="1582560"/>
            <a:ext cx="10342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984040" y="5497560"/>
            <a:ext cx="43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通道虽然听起来很难懂，但你可以把它理解为“存储选区”或“存储颜色值”的东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5692680" y="2349360"/>
            <a:ext cx="302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OTOSHO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有一种特别的选择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色代表没有选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白色代表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灰色 代表半透明选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这种选择方法也称“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通道选择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1503360" y="2376360"/>
            <a:ext cx="3978360" cy="2863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2"/>
          <p:cNvSpPr/>
          <p:nvPr/>
        </p:nvSpPr>
        <p:spPr>
          <a:xfrm>
            <a:off x="6561000" y="4191120"/>
            <a:ext cx="142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关键点一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：如何建立黑白灰选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6451920" y="4572000"/>
            <a:ext cx="16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关键点二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：如何将通道转成选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063880" y="1582560"/>
            <a:ext cx="274104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准备：复制图层并去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534400" y="549756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复制图层的方法可以直接将要复制的图层拉到新建图层按钮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5692680" y="2349360"/>
            <a:ext cx="30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复制图层是为了保护原图不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被编辑和破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去色，将彩色转成黑白灰，是为了建立黑白灰选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1503360" y="2421000"/>
            <a:ext cx="39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09320" y="1582560"/>
            <a:ext cx="316764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准备：调整图像黑白灰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2200680" y="5497560"/>
            <a:ext cx="429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L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打开色阶工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M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快速打开曲线工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5692680" y="2349360"/>
            <a:ext cx="3024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使用图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调整中的色阶或曲线工具将浅灰的地方设置成白场，深色的设置成黑场，保留适度的灰色区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设置的方法是：用适当的吸管工具吸取图像中的黑白区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之所以这样做是为了增加图像的对比，并适当调整黑白选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2" descr=""/>
          <p:cNvPicPr/>
          <p:nvPr/>
        </p:nvPicPr>
        <p:blipFill>
          <a:blip r:embed="rId1"/>
          <a:stretch/>
        </p:blipFill>
        <p:spPr>
          <a:xfrm>
            <a:off x="1506600" y="2370240"/>
            <a:ext cx="40323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800720" y="5497560"/>
            <a:ext cx="31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A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全选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C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复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5692680" y="234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调整完毕后，将图像全选，并复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3" descr=""/>
          <p:cNvPicPr/>
          <p:nvPr/>
        </p:nvPicPr>
        <p:blipFill>
          <a:blip r:embed="rId1"/>
          <a:stretch/>
        </p:blipFill>
        <p:spPr>
          <a:xfrm>
            <a:off x="1541520" y="2376360"/>
            <a:ext cx="394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1772280" y="1582560"/>
            <a:ext cx="1887480" cy="52056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黑白灰选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1800720" y="5497560"/>
            <a:ext cx="311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注意：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A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全选，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TRL+C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可以复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1447920" y="2290680"/>
            <a:ext cx="4132080" cy="3024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5724360" y="2308320"/>
            <a:ext cx="2880000" cy="3006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5692680" y="2349360"/>
            <a:ext cx="30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调整完毕后，将图像全选，并复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" descr=""/>
          <p:cNvPicPr/>
          <p:nvPr/>
        </p:nvPicPr>
        <p:blipFill>
          <a:blip r:embed="rId1"/>
          <a:stretch/>
        </p:blipFill>
        <p:spPr>
          <a:xfrm>
            <a:off x="1541520" y="2376360"/>
            <a:ext cx="39434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0:30:19Z</dcterms:created>
  <dc:creator>qiexing</dc:creator>
  <dc:description/>
  <dc:language>en-US</dc:language>
  <cp:lastModifiedBy>qiexing</cp:lastModifiedBy>
  <dcterms:modified xsi:type="dcterms:W3CDTF">2010-10-05T14:52:46Z</dcterms:modified>
  <cp:revision>43</cp:revision>
  <dc:subject/>
  <dc:title>幻灯片 1</dc:title>
</cp:coreProperties>
</file>