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AD1-7C36-4327-857A-CB92406A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E2DB-C7AC-4A6B-8736-E0260896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E0D-DF14-4B67-867D-C104DBFB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145-B274-4969-A3E1-996F7CDE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25A2-4B30-4A58-9D91-2BBC8FB5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099-FF3F-4EF8-995E-BADE01EF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4BE5-3AA8-4417-8924-09F427D0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573D-57FC-4933-999D-3FA50F23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A05-9AEC-487D-BDD5-B228D56F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2BA4-D624-484B-9E5D-49C6F314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8F09-4E9C-45A9-BFA6-B42FC911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F60-87BF-47B3-AD6E-3DB94680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5CF9-22D9-421A-95A2-8BC8AE69E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08:04:09Z</dcterms:created>
  <dc:creator/>
  <dc:description/>
  <dc:language>en-US</dc:language>
  <cp:lastModifiedBy>WIN7EN</cp:lastModifiedBy>
  <dcterms:modified xsi:type="dcterms:W3CDTF">2010-06-25T08:04:52Z</dcterms:modified>
  <cp:revision>1</cp:revision>
  <dc:subject/>
  <dc:title>Slide 1</dc:title>
</cp:coreProperties>
</file>