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238-FFDE-4990-8DA3-A16AB7D7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58E-83BB-4728-8D64-D71ED928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2D2-2D82-4C85-B2F8-C9A63B6E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758-E416-4756-8F4A-8AAC7CFC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8B61-6FF3-4249-A15E-66F2A869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F421-DF8F-4CCD-8282-394C4891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B210-6670-4232-8C7E-F12DD96C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AAC1-1B72-411F-A0FA-0101127E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6938-B3E2-42E1-BCB1-476AE91F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7306-C787-44CA-96C2-FCAD42A4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7951-6EC7-407A-AEFA-0A060AD4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4C5-F754-4AC3-8C3C-F0FE2BB0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2FED-9108-4B57-B3F9-55D45BD7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A6B8-5B7F-4254-AE1E-77D98684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53DE-AF6D-4AFF-985B-F690168E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7AAC-FA0B-431F-920D-C668D0DF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9D82-A38D-4A10-8EDB-9F9F4B20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302-5DB9-4B3F-9269-DBA39AA6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1CD-3A54-4164-89DB-522D0A5E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A38-BC43-4B54-BE9B-4A655457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308-86E1-4BA7-AD4A-599F4E85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7D5-2BE1-436A-87BE-2FF528A3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85B-67B7-4E68-AFA6-FC90A754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FED-05C0-4AEA-B9B3-EE562B6E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1028-3778-486B-9176-EE339BC089A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0A7F-E2D0-4AA5-BCDE-C15CF127D29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eec94"/>
                </a:solidFill>
                <a:latin typeface="Times New Roman"/>
              </a:rPr>
              <a:t>50</a:t>
            </a:r>
            <a:r>
              <a:rPr b="1" lang="zh-CN" sz="6000" spc="-1" strike="noStrike">
                <a:solidFill>
                  <a:srgbClr val="feec94"/>
                </a:solidFill>
                <a:latin typeface="Times New Roman"/>
              </a:rPr>
              <a:t>个经典面试问答</a:t>
            </a:r>
            <a:br>
              <a:rPr sz="4800"/>
            </a:br>
            <a:br>
              <a:rPr sz="4800"/>
            </a:br>
            <a:r>
              <a:rPr b="0" lang="zh-CN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000" spc="-1" strike="noStrike">
                <a:solidFill>
                  <a:srgbClr val="feec94"/>
                </a:solidFill>
                <a:latin typeface="Times New Roman"/>
                <a:ea typeface="楷体_GB2312"/>
              </a:rPr>
              <a:t>主讲：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  <a:ea typeface="楷体_GB2312"/>
              </a:rPr>
              <a:t>卢秀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最近一年，你做了哪些事情来提高自己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回答尽量与面试职位相关。自我完善的范围很广，你要事先准备一些例子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对公司的价值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这是你强调自己长处的机会，当然，这些长处要跟面试职位相关，事先准备和思考这个问题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说一个你曾经提过的建议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事先准备一个好的建议，它要被采纳并获得成功。如果该建议与面试的工作相关，会大大加分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8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谈谈你在压力下工作的能力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你可以说你曾经在各种压力下获得了成功，提供一个与面试职位相关的例子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9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有什么问题要问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准备好几个问题，比如“我会被公司安排在哪里”“什么时候我可以开始为公司效劳”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这些问题有陷阱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0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希望薪水多少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1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是否辞退过别人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2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对同事哪些行为无法容忍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4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是否有盲点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3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谈谈你与领导之间存在的问题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0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希望薪水多少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重量级问题！如果你先回答，有可能就输了，所以，不要回答。你可以说：“这个问题太难回答了”“你能告诉我薪水范围吗”，大部分情况下，面试官会卸下面具，告诉你答案。如果没有，那可能与具体职位相关，他们会给你一个范围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1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是否辞退过别人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严肃问题！不要轻视辞退问题，也不要让面试官感觉你喜欢辞退人。你该说，只有认为辞退别人是正确、应该做的事情时，才会这样做。如果前提是公司利益和个人利益冲突，你是保护公司利益才这么做的。注意，辞退和临时解雇、裁员是不同的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2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对同事哪些行为无法容忍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圈套问题！努力思考，然后回答同事没有什么行为让你无法容忍。简短地表达自己好像跟人相处得都很好，是很好的回答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3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谈谈你与领导之间存在的问题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 最大陷阱！这是测试你是否会说领导坏话。如果你讲了你与前领导存在的问题，面试可能马上砸了。保持积极态度，不要记恨与领导有关的问题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2621160" cy="3671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48360" y="692280"/>
            <a:ext cx="2622600" cy="3671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05840" y="4868280"/>
            <a:ext cx="12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韦恩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福特博士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479664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丽兹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赖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4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是否有盲点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狡诈问题！如果你知道自己的盲点，那就不叫盲点。不要泄露任何个人的信息，让面试官自己寻找你的缺点，不要告诉他们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这些问题要诚实回答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5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希望自己在团队中处于什么位置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6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有没有应聘其他公司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7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如果现在有足够的钱，你会退休吗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8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是否被要求离职过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1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如果需要，你是否愿意搬家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0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是否愿意加班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9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什么能激发你在工作中的最佳发挥？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5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希望自己在团队中处于什么位置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诚实回答。如果你觉得各种位置都可以，说明这点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6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有没有应聘其他公司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诚实回答，但不要在这方面停留太长时间。话题集中在你应聘的工作、你可以为工作做些什么，此外的内容会分散注意力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7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如果现在有足够的钱，你会退休吗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如果你会的话，回答是。不过，既然你需要工作，它就是你想做的，如果你不想退休，无需刻意说是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8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是否被要求离职过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 如果没有，说没有。如果有，诚实简要地回答，不要批评相关的人和公司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9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什么能激发你在工作中的最佳发挥？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这个问题因人而异，只有你自己可以回答。好的回答有“挑战”“成就”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0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是否愿意加班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诚实回答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1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如果需要，你是否愿意搬家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如果有这种可能性，你需要在面试前与家人达成一致。如果不愿意，不要为了得到工作说谎，以免后悔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133720"/>
            <a:ext cx="8229600" cy="25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这些问题只能这样回答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2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为什么要聘用你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3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是否有这个行业的工作经验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4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是否认为你的能力超过了职位要求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5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为什么离开前一份工作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6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的技能更适合这份工作还是其他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7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是否愿意把公司利益放在个人利益之上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8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认为自己成功吗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9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是否认识我们公司的人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0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有团队合作精神吗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1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的工作哲学是什么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2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金钱和工作，哪个对你更重要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3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工作中什么事会让你失望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994800" cy="60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一个有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多年人力资源经验的职场专家，现任美国管理优势公司副总裁。韦恩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福特博士。 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2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为什么要聘用你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说明你的优势可以满足公司的需求。记住，别跟其他竞争者做比较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3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是否有这个行业的工作经验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回答尽量与面试职位密切相关。如果没有相关经验，尽量往这方面靠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4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是否认为你的能力超过了职位要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不论你的能力如何，回答你“非常适合这个职位”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5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为什么离开前一份工作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无论是什么原因离开，千万不要批评前公司、前上司和前同事，这会让你看起来很糟！保持正面、积极的回答，微笑着谈论离职原因，比如你“想寻找做特别的事情的机会”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6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的技能更适合这份工作还是其他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“这个工作！”不要让面试官怀疑你更想要另一份工作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7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是否愿意把公司利益放在个人利益之上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这是考察忠诚度和奉献精神的直接问题。不要过多考虑伦理道德，说“愿意”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8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认为自己成功吗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永远都要说“是”，并简要解释，比如你设定了一些目标，已经达到一些，目前正努力达成剩下的目标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9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是否认识我们公司的人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注意该公司关于亲属、朋友共同工作的规定。除非你充分考虑过，否则不要提你的亲朋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0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有团队合作精神吗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当然说“有”。准备好例子，详细描述你总是为团队而不是为个人着想，这能很好证明你的团队精神。别吹牛，用陈述事实的语调讲述，这是关键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1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的工作哲学是什么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面试官不想听论文。“你是否有强烈的意愿要把工作完成？是的。”这样回答最合适不过，简短，积极，对公司有益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705800" cy="59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美国职场专家丽兹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赖安，她是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Yahoo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网站和《商业周刊》专栏作家，有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5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年人力资源工作的经验，曾任世界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500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强企业的副总裁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2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金钱和工作，哪个对你更重要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“金钱很重要，但是工作才是最重要的。”没有比这更好的回答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3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工作中什么事会让你失望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不要谈琐碎的事，不要持负面态度。安全的回答很少，比如“没有挑战”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这些问题要模糊回答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4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如果被录用，你希望工作多久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5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谈谈你的理想职业？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7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会拒绝什么样的人一起工作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6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想在这份工作中追求什么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4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如果被录用，你希望工作多久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不能答得太具体，你可以说：“我希望是很长的时间。”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5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谈谈你的理想职业？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6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想在这份工作中追求什么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回答这两个问题不要谈具体的，容易说砸！如果你说理想职业就是面试的职业，面试官会怀疑你的诚实度；如果你说其他职业，面试官会怀疑你如果被录用，会对岗位不满意。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最好的方式是保持中立。比如“一个我喜欢在那里工作的职业，喜欢那里的人，能做出贡献，并迫不及待想开始的工作”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7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会拒绝什么样的人一起工作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不要回答琐碎的内容，那会让你看起来像个怨妇。好的回答包括“对公司的不忠诚，暴力，或违法”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32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这些问题最好这样回答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8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怎么知道自己在事业上是成功的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9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形容一下你的管理方式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0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从工作错误中学到什么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2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会怎样弥补你的经验不足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3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希望老板具有什么样的特质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4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谈谈你如何帮助他人解决争端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5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描述你的工作原则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50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前领导怎样评价你的优点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7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描述你工作中最大的快乐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8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为什么你认为自己能胜任这个工作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9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最大的优点是什么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6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在工作中最失望是什么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8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怎么知道自己在事业上是成功的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好的回答很多，比如你为自己设立高标准并达到了标准；你做出的结果是成功的；老板告诉你“你是成功的”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9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形容一下你的管理方式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尽量避免模式化回答。“环境式管理”是一个安全的回答，因为它表明你会根据不同环境进行管理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0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从工作错误中学到什么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这个问题你必须回答，否则面试官会怀疑你的诚实。说一个微小、善意、最后让你有积极收获的错误。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1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如果你负责招聘这个职位，你希望招什么样的人注意，要提到这个职位所需要、而你也拥有这种特质的人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91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这些问题要事先准备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介绍一下你自己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对我们公司有什么了解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为什么要为我们工作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的同事如何评价你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最近一年，你做了哪些事情来提高自己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对公司的价值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说一个你曾经提过的建议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8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谈谈你在压力下工作的能力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9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有什么问题要问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2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会怎样弥补你的经验不足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首先，如果你有面试官不知道的经验，告诉他们。然后说说你的勤奋和学习能力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3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希望老板具有什么样的特质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保持中立和积极的态度。安全的回答是“知识渊博，有幽默感，公平，对下属的忠诚，高要求”——所有老板都认为自己有这些特质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4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谈谈你如何帮助他人解决争端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举例子，重点描述你的解决技巧，而不是争端本身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5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描述你的工作原则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强调公司利益。好的回答包括完成工作的决心、努力工作并享受工作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6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在工作中最失望是什么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确认你回答的内容是你无法控制的，表现出接受的态度，不要有负面情绪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7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描述你工作中最大的快乐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描述为公司完成某项工作而得到的快乐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8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为什么你认为自己能胜任这个工作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陈述多个理由，包括技能、经验和兴趣爱好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9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最大的优点是什么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只要保持积极的态度，很多回答都很棒。比如：区分优先次序、解决问题、压力下工作和集中精力完成任务的能力等等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50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前领导怎样评价你的优点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好的回答：忠诚，精力旺盛，态度积极，领导能力，团队精神，专业，创新，耐心，努力，主动等等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面试时求职者不能问的问题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们公司是干什么的？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我多快能转另一个职位？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还提供其他职位吗？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公司会做背景调查吗？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如果你雇了我，我能等一段时间（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周以上）再来上班吗？</a:t>
            </a: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什么时候能涨工资？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介绍一下你自己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面试最常见问题。你需要事先准备好一段陈述，注意别让人发觉你事先排练过。除非面试官有特别要求，否则你的回答应围绕应聘职位展开。你可以谈谈与职位相关的、做过的事情或职业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们公司是干什么的？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这问题，你在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1980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年问合适，那时没有互联网。今天，对你要面试的公司做点研究是跨进它们大门的必修课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我多快能转另一个职位？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问这个问题，你第一轮就会出局。如果你喜欢这个职位，尽量争取。如果它真的不适合你，就等正确时机再提。几乎每个雇主都会让你在一个职位干上至少一年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还提供其他职位吗？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如果你真的是大材小用了，最好用婉转方式问：“这个工作听起来很有趣，但是坦白说，我上一份工作职位和报酬要比你这一份高，你能帮我更好地进入现在的角色吗？”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什么时候能涨工资？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没得到工作前，最好在第二轮面试时这样问：“贵公司是否根据员工年度表现来协商工资？”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如果你雇了我，我能等一段时间（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周以上）再来上班吗？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雇主一般会给你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周来处理相关事宜。如果你没有工作，他们更喜欢你立即上班，除非你有非常好的理由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公司会做背景调查吗？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很多人对以前的工作不自信，会担心这个问题。而面试官听到这个问题，会觉得你在掩盖什么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对我们公司有什么了解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你在面试前就要了解你应聘的公司，知道它目前的情况以及未来趋势等等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为什么要为我们工作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 这个问题需要一些思考，并基于你事先对该公司的了解。在这个问题上，诚实至关重要，而且你是否诚实很容易被面试官察觉。你可以谈谈长期职业规划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你的同事如何评价你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eec94"/>
                </a:solidFill>
                <a:latin typeface="Times New Roman"/>
              </a:rPr>
              <a:t>       你要准备一两个同事的评价。你跟面试官说：“我在史密斯公司的同事吉尔，总说我是她见过的最勤奋的人。”这句话的功效，跟吉尔与面试官当面说相同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0:44:07Z</dcterms:created>
  <dc:creator>*</dc:creator>
  <dc:description/>
  <dc:language>en-US</dc:language>
  <cp:lastModifiedBy>lmx</cp:lastModifiedBy>
  <dcterms:modified xsi:type="dcterms:W3CDTF">2009-05-14T07:13:01Z</dcterms:modified>
  <cp:revision>6</cp:revision>
  <dc:subject/>
  <dc:title>50个经典面试问答           ——卢秀峰</dc:title>
</cp:coreProperties>
</file>