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FDE-E1DB-4BAD-8A40-4059F37A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465-350D-4862-B51C-608CAF2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74E-40AC-4DFF-89B5-D781E97A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751-5CD7-4C6A-BBF7-77D0B2D5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0AD1-AD2D-4E74-A71A-DD2413A1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01C5-09E2-4E55-86A4-4A0F26FA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21E4-031F-4B88-927F-4A88ACB5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0A52-91C7-4AF5-B341-33ABEA6B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2894-48FF-4534-8B46-23AD1186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0504-F789-436D-A65D-F5445B3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E71-300D-4EB9-AEEE-DC1A511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FFF-FD36-49B5-88D2-9DA1639B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1C7D-DADB-486B-9DCD-3A6083E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D96E-D41A-4011-BF47-3499A2A3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D896-5AAA-4514-B787-AF19AC48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DC7-EC89-47ED-942D-F89A5EA6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B3D3-2C59-4F68-9539-FDA228D5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8AD-D97D-4016-98D8-AFA951DA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A83-D994-452A-89BD-89AB7DDF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586-2AFE-42CC-BB45-1C6A07C0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323-CF49-4E89-82B7-0853142C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73B-E355-46EA-92B4-AC85B5C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2F3-77E1-42AC-AD5A-7268CEB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92E-50E7-47D1-A550-D3D569E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DD3-FA05-4A70-9751-2C05D0ABB380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3336-B60A-4A15-9D5E-B050DDD05A4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04920"/>
            <a:ext cx="8763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击杀器是一款绿色免费软件，解压之后，即可运行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windows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操作系统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软件有以下两大功能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一、</a:t>
            </a:r>
            <a:r>
              <a:rPr b="1" lang="zh-CN" sz="1600" spc="-1" strike="noStrike">
                <a:solidFill>
                  <a:srgbClr val="ffffcc"/>
                </a:solidFill>
                <a:latin typeface="Verdana"/>
              </a:rPr>
              <a:t>瞬间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自动关闭指定类型的网页，如弹出广告、病毒网页等任何你讨厌的网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二、类似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裁图的功能，比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更方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关于关闭网页功能：本软件支持所有基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的浏览器，如：微软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360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，对搜狗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、世界之窗三款浏览器，需在地址栏切换成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才有效，如下图所示（带图形字母‘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E’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的地方点一下便能切换浏览器内核）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3505320" cy="195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42800" y="6019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Verdana"/>
              </a:rPr>
              <a:t>软件的具体操作，在下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一、从你讨厌的网址截取一部分，比如从“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http://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www.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/2010/20100923123.ht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复制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</a:t>
            </a:r>
            <a:r>
              <a:rPr b="1" lang="en-US" sz="1600" spc="-1" strike="noStrike">
                <a:solidFill>
                  <a:srgbClr val="ffcc66"/>
                </a:solidFill>
                <a:latin typeface="宋体"/>
              </a:rPr>
              <a:t>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然后粘贴到击杀框里，以后只要浏览器的地址栏包含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字眼的网址，便会瞬间自动关闭。有多个关键字，以“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|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隔开，输入过程中系统会实时自动保存，示例如下图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98764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点右上角的最小化，网址击杀器就会缩到桌面右下角（下图左边第一个图标），把鼠标放上去，双击或者单击右键，就可以对软件进行打开主界面或退出的操作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8862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宋体"/>
              </a:rPr>
              <a:t>操作流程：运行本软件，编辑击杀框里的字符（没有新增、删除、修改则不用动它），最小化窗口，结束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267080"/>
            <a:ext cx="807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二、运行击杀器之后，按下键盘上的“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creen print”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键，也就是屏幕打印键，鼠标会变成十字架，拖动鼠标，选择你看中的区域，松开鼠标，就会有提示“复制”“保存”“取消”三项功能处理你选择的这块区域形成的图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按下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screen print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之后，若你不想裁图了，单击鼠标右键即可退出裁图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4864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所有的操作都有非常明显的提示，根据提示一步步做下去即可，速度超快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514600" cy="380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90720" y="3581280"/>
            <a:ext cx="380880" cy="3049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579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1T16:04:3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